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C8EF-9E44-491F-9DC3-B25C426B264A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972D-A52C-4B7A-B167-8F20F8A9EF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A1F5-7E70-44BF-8145-3FDB9D42ED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FFFB-82AB-4F17-90A9-BCB32E53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309-2AAA-4D9E-B1C2-8EBBC5FC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2EF32-B84E-4BEB-8530-CB536DEA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E18DA-27E8-447D-A82D-153FBB12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2D417-44AF-49A8-B921-1B325294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C78B6-C502-49D0-9442-09522185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CFB66-4D71-4D47-B887-07DE3172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75338-1772-44F1-AB49-63678473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D49BF-E488-44D2-8812-6693DD73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9EC60-8C98-4F6D-B7B5-B32503A2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E745B-3CB9-41DF-AF94-59C8EBC0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83D49-F32D-46F8-A55D-B48C2A68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1E4-96E2-4E41-B121-75CC53A8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531E7-7A0E-4024-A098-DD48A2D4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14FE8-5FBC-46FB-8D8F-EA7AA09C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3CD56-8866-4FF9-8851-517E9D16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F4777-B157-4D71-9C09-635B7E05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93BBC-13DD-4D00-8E91-DABF1E76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63255-432B-4C29-B770-1E3881BC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25C72-1962-4C7B-95EF-339A9FEE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FE792-2AEF-4A36-9F8D-BE93DEE6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B716D-F0A6-44D2-8973-504483A3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5D326-155A-481C-A8D0-9845C4910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0E8C-E706-4E8C-8F17-29D4BCAB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8C237-3704-4365-B50B-74A51493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C64BB-4918-4D89-A4DC-F8BCA71E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B0BCF-736E-47A8-A4A6-E85304C2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487CE-1E2F-4704-A24F-AAB7CD4B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A6C23-3DE7-4E54-872C-0233B672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0FECC-2386-47F1-B31C-96C410C1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0FB0E-FFD1-4A36-A589-E5A8CA3D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075A8-F92C-4BB1-A27F-E61034B9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03005-F141-4E37-855C-AB5D00DF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4741E-1E92-4E35-A471-2A9E8707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08A6-AD5E-4FBD-8A95-28DB83C3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AFD5E-3A5E-4DEC-9B55-49060A57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88CCC-41EE-49F6-A081-6B3D5D893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62726-ABAB-4558-B616-F81D3ECD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93EA1-9EF4-410C-90F9-654FD83C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47B54C-0367-417E-A457-E1D29870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202BA-687A-4C96-A543-802E5F05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19EA5F-6D5B-4311-BA44-033F4610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CA3DB-6E0B-4769-B227-6389EF51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9AAE8-0145-493D-9346-CF191313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81558-41A2-4B3C-926B-C11CC02A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F536-FE4D-42B1-A079-505DACEB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F7A18-E59F-4F0B-8038-C6736016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D1958-EB8D-4A65-8E1B-1E8E4D28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E8110-732C-49C1-B5C7-2B9BE3DB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E7342-249D-4BE7-8394-3C6822B4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3B3F2-D646-423A-8A4F-56121F02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F139E-FDBB-4D8A-8786-FC291E04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862D3-BE7D-4CF7-9D23-B6C745EE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EAC6B3-A08D-4E5F-A633-6CC9B1BA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A47F12-225D-49C0-8013-1A92FC53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9AB16B-2201-482C-84DF-B7B790C3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8228-0A82-46FE-ACC9-C25DD795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09254F-2E29-4EFB-8DA7-B2CC182B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818BF6-ED97-4D90-A8C2-F15AE2E8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5F3512-9252-4C2E-AA7B-D1347A73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2DBFD1-EF9D-47F7-93ED-99CA81B7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AC361-F461-46DD-AED7-C1659E56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AF720F-D261-43A8-8FFA-22455E4E8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77AE0F-5EA2-4A5F-9FFD-4CECA2FA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56EF1D-4E0E-45D9-A551-6657EC07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335E45-1099-49B9-9C39-91438D2D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9EFC3-0A7D-44A5-AB57-1C2D52D48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D3F4-8821-4268-84C5-30D7FE61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A047CB-B47E-4C81-B70B-84992EAE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4FCF6-E899-4B66-BC0A-8433F0F0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FC2E76-4E90-4DAC-A465-928A68EB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E680D-B92B-4FC0-8A93-8E10C86C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37D00B-AF30-4AD2-B2B0-B8D4631E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EF9BC3-52A2-485D-8E52-676BCAA5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84A87B-D118-4A2A-80A1-96A72593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BBD73C-22D6-480E-A34B-F8EA770C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A49CD-61D7-46B5-A3DC-F552DE15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945DC4-4CDB-4A9D-94E7-71DDB6FA4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3455-1C31-4062-BF01-F3AB7F55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D8BE3B-4A68-4E2F-B578-3E84053C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8B266C-94A2-4EAB-AE9A-11D2282D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5FDA3C-4A9C-45DB-8072-437C451C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9313AD-EB7A-4C1C-84DE-B5A78617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9F2AD6-30FA-4C86-B525-FE31EE79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ED2651-5467-42DD-8FB6-34C7BD6E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12901F-9542-4AA0-93EA-1DC9142F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F552AA-68E9-4505-8772-7CC06EFC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102506-BD67-4E7C-9A2D-3D1216FC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329224-EEBA-4E0B-BDAA-743005B6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DECA-55CA-4C3D-89D9-822B969E9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0BA84F-9390-471E-8836-8B64BBD6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76006A-8ABC-42F7-BC51-5CDAB194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84FE7A-51F0-4CE5-ADD1-864B6402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EC637F-3678-4B0A-8835-7850A40A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4C540F-9389-45E7-8BC1-EB6B3DA6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0013CC-97BF-4B2E-B89A-E11CEBD9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F55C78-CA41-4993-9711-57DACE0A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4B386C-A1D4-4A3A-82B1-3B7B2A1F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AD83B3-7C27-4822-826A-9F1387BD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16EA79-57E4-4C2C-93CB-247D4E24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2AB1-3F53-4A82-AD03-3A3821A5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6D27CD-D277-4F7A-A9CB-AB05A24F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77AEEE-8115-4158-8E3F-C44FED05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3D4912-DB1C-4520-9EB1-01348361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6D0F-B36C-4E90-A444-7E41AE64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05D7-13FD-4009-A7B5-C4C39B3A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3520-B1F4-4CC7-8E06-3B3ADB38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2B53-785B-490F-900A-9C3CD2EC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0341-1468-475A-A146-55A57037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9191-CAD4-44C7-83F9-CF680324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AEBAA-6C4B-473C-91BF-BD264E31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959BD-3B23-4567-A042-2EE36F1A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63D69-EE69-4365-A55E-D7910928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B2B6E-94CB-4715-B6EB-BD1DC161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56A01-372D-419F-BE57-0CAF610C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4DB1-46DF-42CD-9A4D-33B2AD38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664B4-C30B-46ED-A708-3C905523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54748-6E4D-41EF-AFCB-5D8C13A9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DD91A-9DB4-4B00-87D2-91DA89E8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1FE1F-E262-42DE-A23A-EBC84E90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59236-3F07-4E8F-81FF-BC5988CF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C27DC-114A-4345-84D8-EFF67E5E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721E7-4F6E-41C3-80C6-5ECD1EEA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E2709-15D7-4BCE-BDED-361342540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6D4BF-9FC6-4BBB-B530-D19459B5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891FC-F34A-40DE-A9D3-77C869A0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D8F-75D4-4976-80C7-9200F033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06664-B8C6-48BE-A2E1-212B6A06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0D9C9-9890-4B3B-B78B-DA426369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6F5C9-883C-416C-AA3A-54AE9E52F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0E561-A770-422F-995F-7C526580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EF29E-FD11-40FF-A8CE-FAA66AA2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9A8BC-5F5F-47E5-A31C-4B52DE7B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61785-3F16-4827-A566-F884B92A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FEFE8-7A2A-4D9D-87DD-8248D4B7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AC3F3-1084-46A6-8478-5ADEE537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A2F1E-367F-42C2-9909-036D34EE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4FAE-37A8-4051-A4CE-CDF59E69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368D8-0884-43D0-82F1-3B53477B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F4ED1-F7FF-46B1-A910-3C833986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C3186-EC5E-4A49-98A2-1DAFB570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2B795-B333-4DC5-9334-7854027F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D332C-3775-4624-A906-C7EE700F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5723E-A0C8-4872-9B3F-86C8B5D8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FBCE5-F47A-44E1-9410-07D622B6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E84F6-84D6-49F5-B856-B229BAEF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7A3C6-4F64-45E7-9627-6010DB9F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1D641-7185-4496-A7EA-F47661BB9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BCFB-8D67-48F4-9BC6-274B2BE2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EC661-FE30-4AE6-86A5-B53626499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EE279-121F-43D4-B57D-A866349C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5DC7D-23C2-4907-BDDA-80719E7D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C28D7-485E-481E-88E4-BE19B07C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8892D-AEB4-4FD8-AD52-D37EC1C9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C81EB-8A3D-4FD3-8A31-98569E05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DED97-9FE5-4DF7-AB16-0834E2C4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CC10D-05D3-409B-89ED-D229A2F9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09709-1668-45C3-87B2-93AEBCED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3E686-8B75-41B3-8DA0-CAC8B9FF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9979-546B-4852-B53B-9DA23D93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28C2E-6CFA-495B-A311-C01A04B0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F5338-42F7-4013-AE6D-0D75E2C1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C3816-13B2-4AC9-AF2D-DED7D3A2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07B23-1819-4CF1-AF47-1386DA5B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7795E-57FD-48E8-BC5A-F606A96B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9E26C-1384-41B5-9930-D4097BC6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6E9D4-9393-4A75-A0DD-3243125A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D8D7D-3C12-4FD2-841C-DC49C773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80DA5-C08A-41FB-A2C8-B5B4B840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9A52A-680C-4411-B580-39A2EF85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0F7D-C11F-4215-93C4-6095F387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56D7D-FAD2-4AE5-9489-5D401BE0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287F5-D1A8-4496-93B4-6C477F41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7A8B5-2CA3-4EE4-AA4E-4410D2EB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BB10C-1453-42FE-BFB3-7B2FC442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4DF2C-9482-488F-B2A9-5615200C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91474-CAC5-4588-9D5C-32E9A666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E87CB-6EAF-4918-9F7D-71CADD80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F394D-1797-4507-95FC-C2A089C1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AF847-0199-4F27-81EB-99A13D42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70CCD-FC1D-4BC5-94E4-F380D268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6130-075C-435B-8C19-ED38DBF5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31451-DB0A-4451-A62D-03859F4D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AC562-AB09-444F-BC00-BC22A5F5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22A44-BE3C-4C0A-A128-9796E9AF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E7916-AB01-4BD6-8A84-D2BD3EE0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0D5F0-57AC-4E9A-9A52-FB13BAF0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4A686-C8F2-4B83-B46E-EEC9FDA6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DF149-024E-4DD4-9A02-95A3FB2AA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BBA14-775C-4D65-ACAD-CA16D2B1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38152-596A-4D72-AA87-1590B8D2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7457C-BA81-4E5C-8C9E-1EBFD8F3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22EE-1C99-423E-8E37-93285BBDE0B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CD61756-B425-4626-BAB9-516A0D4267E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418D-4676-4811-8CB0-6C0218AAD5C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2611391-D8DA-4D37-BBE0-4F640308E7D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50A1-A0B9-43FB-8B0F-94F71EA89DF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B7FE709-3AC9-4341-83E9-7D2F0216A6F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2159-C1FF-4FF1-AF1D-4327EB20AF7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3370B4E-596A-4D53-A60D-6E16C643D10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3FAE-427F-4400-BB26-CCFBB4BE7B7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A92BA5E-6CEC-424B-BEA8-51775DB30F9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BE9B-0532-4016-86DD-870A007C4C0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E967FA5-9711-4BA6-82B6-7D4F4847E5C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BB3E-9366-4B81-AE3B-C2535EBFDC7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8D269E0-5BF8-4B2A-A8A7-EA77EC8A984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C830-7F4B-4753-B5F7-2D7DF6C6C36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420CF34-44ED-4DCB-B5CD-BE0C9AC36FE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2C35-99B4-4518-8589-657021B92A0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8DCDA32-3991-4F63-8E64-59FB17A1E9C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A436-4369-47D9-A4DF-8AFF97DE0AF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FABE049-3061-45C1-BFFC-3A9875C73E2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5698-E9EA-49F8-9688-D45126FC4CB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A5E6D88-AD11-4494-887A-8C868867D9D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2323-6BB7-4115-BCFE-41F4D1ED96E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43B11BA-0E5F-4358-83BC-E0D237BCAFC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B770-B6A2-4A14-B3C6-386CAB83CC0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5E10662-D82B-465E-980E-CFD70DEAD8D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3A37-07F9-485E-9E91-1B59AFAA02D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9EDD590-9182-40C8-8D05-322E741E594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A8D1-BC0F-4E2E-B1C3-4032291F900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B971AC2-BE3D-49A5-9BC2-99E5B82E512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BE37-5619-439F-9F95-1C79979E7A4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46A8176-325B-4619-B0D1-EA408E60841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Russian banking system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 the world financial turmoil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298440" y="471492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Garegin A. Tosuny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27th MEETING OF THE EBF ASSOCIA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4 December 2008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russels,</a:t>
            </a:r>
            <a:r>
              <a:rPr b="1" lang="ru-RU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elgi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57200" y="30002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have to dig a well before parched with thirst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mar Hay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1C30E64-2A39-41CE-8B77-E45FC85248D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D3021C4-B3E8-460F-B263-1DD72F643FF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ets growth rates slow dow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ource base defic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5" name="Object 3" descr=""/>
          <p:cNvPicPr/>
          <p:nvPr/>
        </p:nvPicPr>
        <p:blipFill>
          <a:blip r:embed="rId1"/>
          <a:stretch/>
        </p:blipFill>
        <p:spPr>
          <a:xfrm>
            <a:off x="12600" y="1666800"/>
            <a:ext cx="9131400" cy="49989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371520" y="650088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E16FBFC-2951-483D-808F-380A593F014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lowdown in the growth rat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resource base affects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rowth rate of personal loa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9" name="Object 3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740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99D021E-67E7-4C70-9A59-E2AF01C72EB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wth rates of loans to entities redu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Object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1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8545611-9213-4555-94C9-EDB752E24F2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Диаграмма 4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429760" cy="485784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2"/>
          <p:cNvSpPr/>
          <p:nvPr/>
        </p:nvSpPr>
        <p:spPr>
          <a:xfrm>
            <a:off x="1979640" y="692280"/>
            <a:ext cx="7164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rtage of banks’ resources should be covered by state fun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1A3A2DB-E3F7-444D-B77E-8C03FD9584D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asures taken by the State are         of short-term character and will only help   to get over current issu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idterm liquidity constraints may be deepened by the necessity of payments on foreign loans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A3C0502-CF96-4868-94B2-CF2D8366030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debt of Russian Fed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06200" y="2565360"/>
          <a:ext cx="8929800" cy="3611520"/>
        </p:xfrm>
        <a:graphic>
          <a:graphicData uri="http://schemas.openxmlformats.org/drawingml/2006/table">
            <a:tbl>
              <a:tblPr/>
              <a:tblGrid>
                <a:gridCol w="3146760"/>
                <a:gridCol w="1068120"/>
                <a:gridCol w="1193760"/>
                <a:gridCol w="1258920"/>
                <a:gridCol w="1130400"/>
                <a:gridCol w="113184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7.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1 y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2 yea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6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3,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state deb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,7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corpor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,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,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Oval 39"/>
          <p:cNvSpPr/>
          <p:nvPr/>
        </p:nvSpPr>
        <p:spPr>
          <a:xfrm>
            <a:off x="4492800" y="4929120"/>
            <a:ext cx="1150920" cy="14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40"/>
          <p:cNvSpPr/>
          <p:nvPr/>
        </p:nvSpPr>
        <p:spPr>
          <a:xfrm>
            <a:off x="6372360" y="2197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 bl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9A1292D-6278-437B-B156-1C2B7E5C383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ntirecessionary measures of the Russian Government are adequate to the current situation in banking sector, howev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61A0173-BDFC-4CF3-98E1-53835BA3D88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357120" y="150012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 additional steps should be taken for stabilization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0" name="Схема 4" descr=""/>
          <p:cNvPicPr/>
          <p:nvPr/>
        </p:nvPicPr>
        <p:blipFill>
          <a:blip r:embed="rId1"/>
          <a:stretch/>
        </p:blipFill>
        <p:spPr>
          <a:xfrm>
            <a:off x="195120" y="2249640"/>
            <a:ext cx="86868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12049A5-637D-4C53-925F-500B66D9EAC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4360" y="2419200"/>
            <a:ext cx="773892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problems in the banking system and the financial sector in Russia have not been caused by internal economic developments. They have been “delivered” by the international financial turmoi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its basic characteristics Russian economy is attractive for long-term invest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pite the market slum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Диаграмма 8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6286680" cy="26431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influence of the crisis on the banking system and the economy of Rus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CB1F790-E28E-46AF-BE7F-4E61325233A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6682680" y="1785960"/>
            <a:ext cx="223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Sep.-Oc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eserv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reduc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9,1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Схема 12" descr=""/>
          <p:cNvPicPr/>
          <p:nvPr/>
        </p:nvPicPr>
        <p:blipFill>
          <a:blip r:embed="rId2"/>
          <a:stretch/>
        </p:blipFill>
        <p:spPr>
          <a:xfrm>
            <a:off x="-19080" y="3505320"/>
            <a:ext cx="9248760" cy="33591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3"/>
          <p:cNvSpPr/>
          <p:nvPr/>
        </p:nvSpPr>
        <p:spPr>
          <a:xfrm>
            <a:off x="2328480" y="592920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Verdana"/>
              </a:rPr>
              <a:t>the course of the crisi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7"/>
          <p:cNvSpPr/>
          <p:nvPr/>
        </p:nvSpPr>
        <p:spPr>
          <a:xfrm>
            <a:off x="546480" y="4000680"/>
            <a:ext cx="152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Bank of Russia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571680" y="1547640"/>
            <a:ext cx="5857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ational reserves of Russian Federation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$ bln.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Содержимое 16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4" name="Содержимое 14" descr=""/>
          <p:cNvPicPr/>
          <p:nvPr/>
        </p:nvPicPr>
        <p:blipFill>
          <a:blip r:embed="rId2"/>
          <a:stretch/>
        </p:blipFill>
        <p:spPr>
          <a:xfrm>
            <a:off x="4929120" y="1857240"/>
            <a:ext cx="4038840" cy="4597560"/>
          </a:xfrm>
          <a:prstGeom prst="rect">
            <a:avLst/>
          </a:prstGeom>
          <a:ln w="0">
            <a:noFill/>
          </a:ln>
        </p:spPr>
      </p:pic>
      <p:sp>
        <p:nvSpPr>
          <p:cNvPr id="765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4B71654-F259-4F49-8534-B34B4BC2E89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34" descr=""/>
          <p:cNvPicPr/>
          <p:nvPr/>
        </p:nvPicPr>
        <p:blipFill>
          <a:blip r:embed="rId3"/>
          <a:stretch/>
        </p:blipFill>
        <p:spPr>
          <a:xfrm>
            <a:off x="138240" y="346716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5" descr=""/>
          <p:cNvPicPr/>
          <p:nvPr/>
        </p:nvPicPr>
        <p:blipFill>
          <a:blip r:embed="rId4"/>
          <a:stretch/>
        </p:blipFill>
        <p:spPr>
          <a:xfrm>
            <a:off x="139680" y="4754520"/>
            <a:ext cx="432000" cy="38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6" descr=""/>
          <p:cNvPicPr/>
          <p:nvPr/>
        </p:nvPicPr>
        <p:blipFill>
          <a:blip r:embed="rId5"/>
          <a:stretch/>
        </p:blipFill>
        <p:spPr>
          <a:xfrm>
            <a:off x="142920" y="542916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37" descr=""/>
          <p:cNvPicPr/>
          <p:nvPr/>
        </p:nvPicPr>
        <p:blipFill>
          <a:blip r:embed="rId6"/>
          <a:stretch/>
        </p:blipFill>
        <p:spPr>
          <a:xfrm>
            <a:off x="163440" y="2814480"/>
            <a:ext cx="408240" cy="3286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43" descr=""/>
          <p:cNvPicPr/>
          <p:nvPr/>
        </p:nvPicPr>
        <p:blipFill>
          <a:blip r:embed="rId7"/>
          <a:stretch/>
        </p:blipFill>
        <p:spPr>
          <a:xfrm>
            <a:off x="4641840" y="2111400"/>
            <a:ext cx="431640" cy="3888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4" descr=""/>
          <p:cNvPicPr/>
          <p:nvPr/>
        </p:nvPicPr>
        <p:blipFill>
          <a:blip r:embed="rId8"/>
          <a:stretch/>
        </p:blipFill>
        <p:spPr>
          <a:xfrm>
            <a:off x="4641840" y="278604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5" descr=""/>
          <p:cNvPicPr/>
          <p:nvPr/>
        </p:nvPicPr>
        <p:blipFill>
          <a:blip r:embed="rId9"/>
          <a:stretch/>
        </p:blipFill>
        <p:spPr>
          <a:xfrm>
            <a:off x="4641840" y="414324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7" descr=""/>
          <p:cNvPicPr/>
          <p:nvPr/>
        </p:nvPicPr>
        <p:blipFill>
          <a:blip r:embed="rId10"/>
          <a:stretch/>
        </p:blipFill>
        <p:spPr>
          <a:xfrm>
            <a:off x="4641840" y="3500280"/>
            <a:ext cx="407880" cy="3286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7"/>
          <p:cNvSpPr/>
          <p:nvPr/>
        </p:nvSpPr>
        <p:spPr>
          <a:xfrm>
            <a:off x="993600" y="16430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per capita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Box 18"/>
          <p:cNvSpPr/>
          <p:nvPr/>
        </p:nvSpPr>
        <p:spPr>
          <a:xfrm>
            <a:off x="6000840" y="164304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1"/>
          <a:stretch/>
        </p:blipFill>
        <p:spPr>
          <a:xfrm>
            <a:off x="147600" y="4143240"/>
            <a:ext cx="424080" cy="3574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"/>
          <p:cNvPicPr/>
          <p:nvPr/>
        </p:nvPicPr>
        <p:blipFill>
          <a:blip r:embed="rId12"/>
          <a:stretch/>
        </p:blipFill>
        <p:spPr>
          <a:xfrm>
            <a:off x="4610160" y="4786200"/>
            <a:ext cx="423720" cy="357480"/>
          </a:xfrm>
          <a:prstGeom prst="rect">
            <a:avLst/>
          </a:prstGeom>
          <a:ln w="0">
            <a:noFill/>
          </a:ln>
        </p:spPr>
      </p:pic>
      <p:pic>
        <p:nvPicPr>
          <p:cNvPr id="778" name="chart" descr=""/>
          <p:cNvPicPr/>
          <p:nvPr/>
        </p:nvPicPr>
        <p:blipFill>
          <a:blip r:embed="rId13"/>
          <a:stretch/>
        </p:blipFill>
        <p:spPr>
          <a:xfrm>
            <a:off x="4603680" y="5429160"/>
            <a:ext cx="428760" cy="373320"/>
          </a:xfrm>
          <a:prstGeom prst="rect">
            <a:avLst/>
          </a:prstGeom>
          <a:ln w="0">
            <a:noFill/>
          </a:ln>
        </p:spPr>
      </p:pic>
      <p:pic>
        <p:nvPicPr>
          <p:cNvPr id="779" name="chart" descr=""/>
          <p:cNvPicPr/>
          <p:nvPr/>
        </p:nvPicPr>
        <p:blipFill>
          <a:blip r:embed="rId14"/>
          <a:stretch/>
        </p:blipFill>
        <p:spPr>
          <a:xfrm>
            <a:off x="155520" y="2143080"/>
            <a:ext cx="428760" cy="3729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2"/>
          <p:cNvSpPr/>
          <p:nvPr/>
        </p:nvSpPr>
        <p:spPr>
          <a:xfrm>
            <a:off x="2000160" y="714240"/>
            <a:ext cx="71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of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erging mark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Box 24"/>
          <p:cNvSpPr/>
          <p:nvPr/>
        </p:nvSpPr>
        <p:spPr>
          <a:xfrm>
            <a:off x="104400" y="6500880"/>
            <a:ext cx="95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ource: IMF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8D70C5F-BA51-4341-ADCB-726161D3C79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indexes             of various countries and Russia in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4" name="Object 2" descr=""/>
          <p:cNvPicPr/>
          <p:nvPr/>
        </p:nvPicPr>
        <p:blipFill>
          <a:blip r:embed="rId1"/>
          <a:stretch/>
        </p:blipFill>
        <p:spPr>
          <a:xfrm>
            <a:off x="-79200" y="1685880"/>
            <a:ext cx="9144000" cy="43369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3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91821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F9B57B0-B240-4553-8CA6-4A15393B344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pitalization of the banking system slows dow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trictive monetary policy and outflow of foreign liabilities of Russian ban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8" name="Object 3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5049720"/>
          </a:xfrm>
          <a:prstGeom prst="rect">
            <a:avLst/>
          </a:prstGeom>
          <a:ln w="0">
            <a:noFill/>
          </a:ln>
        </p:spPr>
      </p:pic>
      <p:sp>
        <p:nvSpPr>
          <p:cNvPr id="789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6D0CE4C-F0B8-490A-9FB2-4EB18BFB065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urmoil both on global and Russian markets leads to the outgo of foreig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2" name="Object 4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7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B1D5736-CE32-4F6C-BC43-D5913FBAA4B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estic liabilities of bank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6" name="Object 3" descr=""/>
          <p:cNvPicPr/>
          <p:nvPr/>
        </p:nvPicPr>
        <p:blipFill>
          <a:blip r:embed="rId1"/>
          <a:stretch/>
        </p:blipFill>
        <p:spPr>
          <a:xfrm>
            <a:off x="57240" y="1428840"/>
            <a:ext cx="9086760" cy="51847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79BD8EE-C958-4B33-935D-58DC441C564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growth rates slow down in 2008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Oval 4"/>
          <p:cNvSpPr/>
          <p:nvPr/>
        </p:nvSpPr>
        <p:spPr>
          <a:xfrm>
            <a:off x="5054760" y="2205000"/>
            <a:ext cx="20174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1" name="Object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28832E5-7C6A-4977-B801-833E1A9CFD8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Object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verage indicators of personal income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ceed price increase, nevertheless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Oval 3"/>
          <p:cNvSpPr/>
          <p:nvPr/>
        </p:nvSpPr>
        <p:spPr>
          <a:xfrm>
            <a:off x="3708360" y="3139920"/>
            <a:ext cx="100800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5842080" y="4692600"/>
            <a:ext cx="247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lation firstl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s away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inc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the poore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pula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AB100C8-BA08-49F4-BAA1-DC01777AADF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ross-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al income spread is wid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9" name="Group 17"/>
          <p:cNvGrpSpPr/>
          <p:nvPr/>
        </p:nvGrpSpPr>
        <p:grpSpPr>
          <a:xfrm>
            <a:off x="755640" y="1495440"/>
            <a:ext cx="7777080" cy="5102280"/>
            <a:chOff x="755640" y="1495440"/>
            <a:chExt cx="7777080" cy="5102280"/>
          </a:xfrm>
        </p:grpSpPr>
        <p:pic>
          <p:nvPicPr>
            <p:cNvPr id="810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913040"/>
              <a:ext cx="7777080" cy="46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4"/>
            <p:cNvSpPr/>
            <p:nvPr/>
          </p:nvSpPr>
          <p:spPr>
            <a:xfrm>
              <a:off x="2472840" y="1495440"/>
              <a:ext cx="411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Lorenz Curve &amp; Gini Inde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Text Box 5"/>
            <p:cNvSpPr/>
            <p:nvPr/>
          </p:nvSpPr>
          <p:spPr>
            <a:xfrm>
              <a:off x="5796000" y="4781520"/>
              <a:ext cx="2408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Verdana"/>
                </a:rPr>
                <a:t>80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the population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btain 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45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income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Text Box 7"/>
            <p:cNvSpPr/>
            <p:nvPr/>
          </p:nvSpPr>
          <p:spPr>
            <a:xfrm>
              <a:off x="808200" y="5816520"/>
              <a:ext cx="4340160" cy="580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population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 rot="16200000">
              <a:off x="-147240" y="3865320"/>
              <a:ext cx="2143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incom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Text Box 9"/>
            <p:cNvSpPr/>
            <p:nvPr/>
          </p:nvSpPr>
          <p:spPr>
            <a:xfrm>
              <a:off x="6373800" y="216864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Hungr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27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6372360" y="278136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ussia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49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>
              <a:off x="6373800" y="335772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razil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64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042920" y="2006640"/>
              <a:ext cx="367344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 rot="18887400">
              <a:off x="1608120" y="3631320"/>
              <a:ext cx="2651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erfect equality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Rectangle 6"/>
            <p:cNvSpPr/>
            <p:nvPr/>
          </p:nvSpPr>
          <p:spPr>
            <a:xfrm>
              <a:off x="1116000" y="4076640"/>
              <a:ext cx="2879640" cy="172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Text Box 16"/>
            <p:cNvSpPr/>
            <p:nvPr/>
          </p:nvSpPr>
          <p:spPr>
            <a:xfrm>
              <a:off x="6329520" y="3916440"/>
              <a:ext cx="2087280" cy="52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rfect inequalit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92036E7-EDD6-41F9-8322-40BAF18E19E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very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5560" y="1630440"/>
            <a:ext cx="4498920" cy="5038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mea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rve requirement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5,5-8,5%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1,5- 4,5%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refinancin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inistry of Financ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d fund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(≈ 1,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0,5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bles for the capital marke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ate Agency for Deposit Insuran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ance compensation is increased from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7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sand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ecured lending         of bank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inancing foreign loans through V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716360" y="1628640"/>
            <a:ext cx="4319640" cy="504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B sugges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convey the allocated funds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the majority of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nt access of the banks rated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S&amp;P, Fitch B-/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ody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 B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d capital over 1 bln. rubles to state resource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dit banks for the amount up to 50% of their capital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and Ministry of Finance should refinance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eign loans of the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should enlarge and simplify banks’ refinancin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D1504DD-A909-4310-9FFF-6A9620DB914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7164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итал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8" name="Object 3" descr=""/>
          <p:cNvPicPr/>
          <p:nvPr/>
        </p:nvPicPr>
        <p:blipFill>
          <a:blip r:embed="rId1"/>
          <a:stretch/>
        </p:blipFill>
        <p:spPr>
          <a:xfrm>
            <a:off x="615960" y="4156200"/>
            <a:ext cx="7824600" cy="2701800"/>
          </a:xfrm>
          <a:prstGeom prst="rect">
            <a:avLst/>
          </a:prstGeom>
          <a:ln w="0">
            <a:noFill/>
          </a:ln>
        </p:spPr>
      </p:pic>
      <p:pic>
        <p:nvPicPr>
          <p:cNvPr id="829" name="Object 4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894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0" descr=""/>
          <p:cNvPicPr/>
          <p:nvPr/>
        </p:nvPicPr>
        <p:blipFill>
          <a:blip r:embed="rId1"/>
          <a:stretch/>
        </p:blipFill>
        <p:spPr>
          <a:xfrm>
            <a:off x="41400" y="1928880"/>
            <a:ext cx="5072040" cy="4057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0" descr=""/>
          <p:cNvPicPr/>
          <p:nvPr/>
        </p:nvPicPr>
        <p:blipFill>
          <a:blip r:embed="rId2"/>
          <a:stretch/>
        </p:blipFill>
        <p:spPr>
          <a:xfrm>
            <a:off x="5214960" y="2786040"/>
            <a:ext cx="3786120" cy="3164040"/>
          </a:xfrm>
          <a:prstGeom prst="rect">
            <a:avLst/>
          </a:prstGeom>
          <a:ln w="0">
            <a:noFill/>
          </a:ln>
        </p:spPr>
      </p:pic>
      <p:sp>
        <p:nvSpPr>
          <p:cNvPr id="67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370BA01-B3DC-4A92-B229-39314E11DF2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979640" y="620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сстановится многое из того, что сейчас рушится,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будет разрушено многое из того, что сейчас в почете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винт Гораций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Oval 8"/>
          <p:cNvSpPr/>
          <p:nvPr/>
        </p:nvSpPr>
        <p:spPr>
          <a:xfrm>
            <a:off x="3903840" y="3643200"/>
            <a:ext cx="793440" cy="200052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4475160" y="4208400"/>
            <a:ext cx="1152360" cy="863640"/>
          </a:xfrm>
          <a:prstGeom prst="pi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174240" y="6524640"/>
            <a:ext cx="13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Micex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RB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79160" y="50720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MICEX INDEX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791A23E-5E45-4495-86CB-38D997DD12B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Object 2" descr=""/>
          <p:cNvPicPr/>
          <p:nvPr/>
        </p:nvPicPr>
        <p:blipFill>
          <a:blip r:embed="rId1"/>
          <a:stretch/>
        </p:blipFill>
        <p:spPr>
          <a:xfrm>
            <a:off x="425520" y="4187880"/>
            <a:ext cx="8383680" cy="280332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050560" y="764640"/>
            <a:ext cx="7093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тивы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7210440" y="6461280"/>
            <a:ext cx="193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*данные по США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 учетом фондового рынка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4" name="Object 5" descr=""/>
          <p:cNvPicPr/>
          <p:nvPr/>
        </p:nvPicPr>
        <p:blipFill>
          <a:blip r:embed="rId2"/>
          <a:stretch/>
        </p:blipFill>
        <p:spPr>
          <a:xfrm>
            <a:off x="379440" y="1341360"/>
            <a:ext cx="8385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D2CF003-F51B-4A21-8FDF-56CF48ADDD8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6" name="Object 2" descr=""/>
          <p:cNvPicPr/>
          <p:nvPr/>
        </p:nvPicPr>
        <p:blipFill>
          <a:blip r:embed="rId1"/>
          <a:stretch/>
        </p:blipFill>
        <p:spPr>
          <a:xfrm>
            <a:off x="0" y="136224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7164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per capita in various countries i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2007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ousand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1590840" y="1982880"/>
            <a:ext cx="24764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,0004%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f the populatio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ount for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2%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 the GDP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716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$)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158040" y="64990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ou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5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est persons of Russia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Схема 5" descr=""/>
          <p:cNvPicPr/>
          <p:nvPr/>
        </p:nvPicPr>
        <p:blipFill>
          <a:blip r:embed="rId1"/>
          <a:stretch/>
        </p:blipFill>
        <p:spPr>
          <a:xfrm>
            <a:off x="208080" y="1530360"/>
            <a:ext cx="8802720" cy="51944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policy of Russian government should prevent from turning the financial crisis into a global economic crisi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AFEA782-6F59-41FF-983F-5A17028F9DF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Не равно 4"/>
          <p:cNvSpPr/>
          <p:nvPr/>
        </p:nvSpPr>
        <p:spPr>
          <a:xfrm>
            <a:off x="4157640" y="1714680"/>
            <a:ext cx="84312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Плюс 6"/>
          <p:cNvSpPr/>
          <p:nvPr/>
        </p:nvSpPr>
        <p:spPr>
          <a:xfrm>
            <a:off x="7429680" y="4214880"/>
            <a:ext cx="914400" cy="914400"/>
          </a:xfrm>
          <a:prstGeom prst="pie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Минус 7"/>
          <p:cNvSpPr/>
          <p:nvPr/>
        </p:nvSpPr>
        <p:spPr>
          <a:xfrm>
            <a:off x="785880" y="4071960"/>
            <a:ext cx="91440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ic macroeconomic and banking sector indicator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85840" y="1658880"/>
          <a:ext cx="8715240" cy="4984920"/>
        </p:xfrm>
        <a:graphic>
          <a:graphicData uri="http://schemas.openxmlformats.org/drawingml/2006/table">
            <a:tbl>
              <a:tblPr/>
              <a:tblGrid>
                <a:gridCol w="4143240"/>
                <a:gridCol w="1214640"/>
                <a:gridCol w="1666800"/>
                <a:gridCol w="16905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n. $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1.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2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ty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7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2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4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2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7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4,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roeconomic indicato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D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9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s in fixed capi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6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3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 income of the popu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5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0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9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9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3D01EC8-C6E2-4DDE-97F4-A538EA727AD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E1B01FC-CEB3-4A4F-A40C-DD824AF4FE8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85760" y="699840"/>
            <a:ext cx="7143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ussia falls behind other countries by absolute and relative in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cato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93" name="Содержимое 9"/>
          <p:cNvGraphicFramePr/>
          <p:nvPr/>
        </p:nvGraphicFramePr>
        <p:xfrm>
          <a:off x="139680" y="1660680"/>
          <a:ext cx="2851200" cy="48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4" name="Содержимое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660680"/>
                    <a:ext cx="285120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5"/>
          <p:cNvGraphicFramePr/>
          <p:nvPr/>
        </p:nvGraphicFramePr>
        <p:xfrm>
          <a:off x="3146400" y="1658880"/>
          <a:ext cx="2835360" cy="483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6400" y="1658880"/>
                    <a:ext cx="28353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6"/>
          <p:cNvGraphicFramePr/>
          <p:nvPr/>
        </p:nvGraphicFramePr>
        <p:xfrm>
          <a:off x="6168960" y="1660680"/>
          <a:ext cx="2927520" cy="4857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8960" y="1660680"/>
                    <a:ext cx="292752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Равно 28"/>
          <p:cNvSpPr/>
          <p:nvPr/>
        </p:nvSpPr>
        <p:spPr>
          <a:xfrm>
            <a:off x="5715000" y="3728880"/>
            <a:ext cx="771480" cy="77184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Деление 26"/>
          <p:cNvSpPr/>
          <p:nvPr/>
        </p:nvSpPr>
        <p:spPr>
          <a:xfrm>
            <a:off x="2714760" y="3714840"/>
            <a:ext cx="730080" cy="72540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01" name="Прямая со стрелкой 30"/>
          <p:cNvCxnSpPr/>
          <p:nvPr/>
        </p:nvCxnSpPr>
        <p:spPr>
          <a:xfrm flipH="1" flipV="1">
            <a:off x="1356480" y="2428560"/>
            <a:ext cx="786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2" name="TextBox 31"/>
          <p:cNvSpPr/>
          <p:nvPr/>
        </p:nvSpPr>
        <p:spPr>
          <a:xfrm>
            <a:off x="1483920" y="2143080"/>
            <a:ext cx="62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,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10"/>
          <p:cNvSpPr/>
          <p:nvPr/>
        </p:nvSpPr>
        <p:spPr>
          <a:xfrm>
            <a:off x="61920" y="667080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of Russia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utsche Bundesbank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F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2163240" y="607212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ssia has a crisis of underprodu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FEDA2D4-6552-43C7-9F3A-D9FA1D23396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844880" y="3798720"/>
            <a:ext cx="395928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Содержимое 6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4429080" cy="51148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3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4286160" cy="511488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ая соединительная линия 8"/>
          <p:cNvSpPr/>
          <p:nvPr/>
        </p:nvSpPr>
        <p:spPr>
          <a:xfrm flipH="1">
            <a:off x="4070520" y="2071800"/>
            <a:ext cx="1440" cy="450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0" name="Прямая со стрелкой 10"/>
          <p:cNvCxnSpPr/>
          <p:nvPr/>
        </p:nvCxnSpPr>
        <p:spPr>
          <a:xfrm flipH="1" flipV="1">
            <a:off x="2285280" y="6428520"/>
            <a:ext cx="17866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TextBox 11"/>
          <p:cNvSpPr/>
          <p:nvPr/>
        </p:nvSpPr>
        <p:spPr>
          <a:xfrm>
            <a:off x="2972880" y="6264360"/>
            <a:ext cx="53424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х 5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Прямая соединительная линия 15"/>
          <p:cNvSpPr/>
          <p:nvPr/>
        </p:nvSpPr>
        <p:spPr>
          <a:xfrm flipH="1">
            <a:off x="7786800" y="542916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3" name="Прямая со стрелкой 19"/>
          <p:cNvCxnSpPr/>
          <p:nvPr/>
        </p:nvCxnSpPr>
        <p:spPr>
          <a:xfrm flipH="1" flipV="1">
            <a:off x="6928920" y="6286320"/>
            <a:ext cx="858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4" name="Rectangle 2"/>
          <p:cNvSpPr/>
          <p:nvPr/>
        </p:nvSpPr>
        <p:spPr>
          <a:xfrm>
            <a:off x="1979640" y="708120"/>
            <a:ext cx="71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ussia falls behind many other countries in mortgage lending despite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gh growth rates of the mark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Схема 6" descr=""/>
          <p:cNvPicPr/>
          <p:nvPr/>
        </p:nvPicPr>
        <p:blipFill>
          <a:blip r:embed="rId1"/>
          <a:stretch/>
        </p:blipFill>
        <p:spPr>
          <a:xfrm>
            <a:off x="920880" y="1822320"/>
            <a:ext cx="7441920" cy="4962600"/>
          </a:xfrm>
          <a:prstGeom prst="rect">
            <a:avLst/>
          </a:prstGeom>
          <a:ln w="0">
            <a:noFill/>
          </a:ln>
        </p:spPr>
      </p:pic>
      <p:sp>
        <p:nvSpPr>
          <p:cNvPr id="716" name="Скругленный прямоугольник 9"/>
          <p:cNvSpPr/>
          <p:nvPr/>
        </p:nvSpPr>
        <p:spPr>
          <a:xfrm>
            <a:off x="3929040" y="1785960"/>
            <a:ext cx="1428840" cy="321480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3214800"/>
              <a:gd name="textAreaBottom" fmla="*/ 3145320 h 3214800"/>
            </a:gdLst>
            <a:ahLst/>
            <a:rect l="textAreaLeft" t="textAreaTop" r="textAreaRight" b="textAreaBottom"/>
            <a:pathLst>
              <a:path w="21600" h="48592">
                <a:moveTo>
                  <a:pt x="3600" y="0"/>
                </a:moveTo>
                <a:arcTo wR="3600" hR="3600" stAng="16200000" swAng="-5400000"/>
                <a:lnTo>
                  <a:pt x="0" y="44992"/>
                </a:lnTo>
                <a:arcTo wR="3600" hR="3600" stAng="10800000" swAng="-5400000"/>
                <a:lnTo>
                  <a:pt x="18000" y="48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Выноска 1 (с границей) 7"/>
          <p:cNvSpPr/>
          <p:nvPr/>
        </p:nvSpPr>
        <p:spPr>
          <a:xfrm>
            <a:off x="7286760" y="2786040"/>
            <a:ext cx="1428480" cy="71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all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essential to restore a complete banking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E62AAC2-FC65-49EB-B202-8E686CDD440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Прямоугольник 4"/>
          <p:cNvSpPr/>
          <p:nvPr/>
        </p:nvSpPr>
        <p:spPr>
          <a:xfrm>
            <a:off x="857160" y="1428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in thing here is to recover confidence between entiti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Выноска 1 (с границей) 5"/>
          <p:cNvSpPr/>
          <p:nvPr/>
        </p:nvSpPr>
        <p:spPr>
          <a:xfrm>
            <a:off x="6188040" y="1857240"/>
            <a:ext cx="1500120" cy="7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723" y="21495"/>
                </a:moveTo>
                <a:lnTo>
                  <a:pt x="-1800" y="872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Выноска 1 (с границей) 8"/>
          <p:cNvSpPr/>
          <p:nvPr/>
        </p:nvSpPr>
        <p:spPr>
          <a:xfrm>
            <a:off x="6273720" y="5715000"/>
            <a:ext cx="1500120" cy="5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97" y="258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Скругленный прямоугольник 10"/>
          <p:cNvSpPr/>
          <p:nvPr/>
        </p:nvSpPr>
        <p:spPr>
          <a:xfrm>
            <a:off x="2143080" y="3571920"/>
            <a:ext cx="5000760" cy="157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Скругленный прямоугольник 11"/>
          <p:cNvSpPr/>
          <p:nvPr/>
        </p:nvSpPr>
        <p:spPr>
          <a:xfrm>
            <a:off x="3746520" y="3429000"/>
            <a:ext cx="1785960" cy="329868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3298680"/>
              <a:gd name="textAreaBottom" fmla="*/ 3211560 h 3298680"/>
            </a:gdLst>
            <a:ahLst/>
            <a:rect l="textAreaLeft" t="textAreaTop" r="textAreaRight" b="textAreaBottom"/>
            <a:pathLst>
              <a:path w="21600" h="39892">
                <a:moveTo>
                  <a:pt x="3600" y="0"/>
                </a:moveTo>
                <a:arcTo wR="3600" hR="3600" stAng="16200000" swAng="-5400000"/>
                <a:lnTo>
                  <a:pt x="0" y="36292"/>
                </a:lnTo>
                <a:arcTo wR="3600" hR="3600" stAng="10800000" swAng="-5400000"/>
                <a:lnTo>
                  <a:pt x="18000" y="39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aranties are the main way to reduce th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rust at the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26" name="Содержимое 8"/>
          <p:cNvGraphicFramePr/>
          <p:nvPr/>
        </p:nvGraphicFramePr>
        <p:xfrm>
          <a:off x="428760" y="2214720"/>
          <a:ext cx="8358120" cy="40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Содержимое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14720"/>
                    <a:ext cx="83581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0AD700C-9B45-47FD-90A2-F49E1F4C615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142920" y="6523200"/>
            <a:ext cx="310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сточник: Данные конференции ФБК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1428840" y="15001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developed economies a substantial part of governmental assistance are the guaran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Григорян</cp:lastModifiedBy>
  <dcterms:modified xsi:type="dcterms:W3CDTF">2008-11-27T18:04:02Z</dcterms:modified>
  <cp:revision>498</cp:revision>
  <dc:subject/>
  <dc:title>Расширение кредитования – важнейший фактор экономического роста России </dc:title>
</cp:coreProperties>
</file>